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12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3.png" ContentType="image/png"/>
  <Override PartName="/ppt/media/image35.png" ContentType="image/png"/>
  <Override PartName="/ppt/media/image5.jpeg" ContentType="image/jpeg"/>
  <Override PartName="/ppt/media/image4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dt" idx="18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1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1FCAF-DF5C-46BF-94C5-E2526F778470}" type="slidenum">
              <a:rPr b="0" lang="sr-Latn-CS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200" spc="-1" strike="noStrike">
                <a:solidFill>
                  <a:srgbClr val="ffffff"/>
                </a:solidFill>
                <a:latin typeface="Calibri"/>
                <a:ea typeface="Microsoft YaHei"/>
              </a:rPr>
              <a:t>Испитивање функције тубула подразумева одређивање гликозурије, реапсорпције аминокиселина и фосфата, излучивање </a:t>
            </a:r>
            <a:r>
              <a:rPr b="0" i="1" lang="sr-Latn-CS" sz="1200" spc="-1" strike="noStrike">
                <a:solidFill>
                  <a:srgbClr val="ffffff"/>
                </a:solidFill>
                <a:latin typeface="Calibri"/>
                <a:ea typeface="Microsoft YaHei"/>
              </a:rPr>
              <a:t>Na</a:t>
            </a:r>
            <a:r>
              <a:rPr b="0" lang="sr-CS" sz="1200" spc="-1" strike="noStrike">
                <a:solidFill>
                  <a:srgbClr val="ffffff"/>
                </a:solidFill>
                <a:latin typeface="Calibri"/>
                <a:ea typeface="Microsoft YaHei"/>
              </a:rPr>
              <a:t>, клиренса литијума, </a:t>
            </a:r>
            <a:r>
              <a:rPr b="0" lang="el-GR" sz="1200" spc="-1" strike="noStrike">
                <a:solidFill>
                  <a:srgbClr val="ffffff"/>
                </a:solidFill>
                <a:latin typeface="Calibri"/>
                <a:ea typeface="Microsoft YaHei"/>
              </a:rPr>
              <a:t>β</a:t>
            </a:r>
            <a:r>
              <a:rPr b="0" lang="sr-CS" sz="1200" spc="-1" strike="noStrike" baseline="-25000">
                <a:solidFill>
                  <a:srgbClr val="ffffff"/>
                </a:solidFill>
                <a:latin typeface="Calibri"/>
                <a:ea typeface="Microsoft YaHei"/>
              </a:rPr>
              <a:t>2</a:t>
            </a:r>
            <a:r>
              <a:rPr b="0" lang="sr-CS" sz="1200" spc="-1" strike="noStrike">
                <a:solidFill>
                  <a:srgbClr val="ffffff"/>
                </a:solidFill>
                <a:latin typeface="Calibri"/>
                <a:ea typeface="Microsoft YaHei"/>
              </a:rPr>
              <a:t>-микроглобулин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Коцентрациона способност бубрега одређује се пробом жеђања и вазопресином. Локализација ензима у ћелијама и њихова појава у урину указује на место лезија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Microsoft YaHei"/>
              </a:rPr>
              <a:t>Мерењем</a:t>
            </a:r>
            <a:r>
              <a:rPr b="0" lang="sr-Latn-CS" sz="1200" spc="-1" strike="noStrike">
                <a:solidFill>
                  <a:srgbClr val="ffffff"/>
                </a:solidFill>
                <a:latin typeface="Calibri"/>
                <a:ea typeface="Microsoft YaHei"/>
              </a:rPr>
              <a:t> </a:t>
            </a:r>
            <a:r>
              <a:rPr b="0" i="1" lang="sr-Latn-CS" sz="1200" spc="-1" strike="noStrike">
                <a:solidFill>
                  <a:srgbClr val="ffffff"/>
                </a:solidFill>
                <a:latin typeface="Calibri"/>
                <a:ea typeface="Microsoft YaHei"/>
              </a:rPr>
              <a:t>pH</a:t>
            </a:r>
            <a:r>
              <a:rPr b="0" lang="sr-Latn-CS" sz="1200" spc="-1" strike="noStrike">
                <a:solidFill>
                  <a:srgbClr val="ffffff"/>
                </a:solidFill>
                <a:latin typeface="Calibri"/>
                <a:ea typeface="Microsoft YaHe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Microsoft YaHei"/>
              </a:rPr>
              <a:t>мокраће и концентрације бикарбоната у плазми може указати на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Microsoft YaHei"/>
              </a:rPr>
              <a:t>с</a:t>
            </a:r>
            <a:r>
              <a:rPr b="0" lang="sr-CS" sz="1200" spc="-1" strike="noStrike">
                <a:solidFill>
                  <a:srgbClr val="ffffff"/>
                </a:solidFill>
                <a:latin typeface="Calibri"/>
                <a:ea typeface="Microsoft YaHei"/>
              </a:rPr>
              <a:t>истемску ацидоз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1E4187-B25A-42F2-8DBB-DC27A5F429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F87532-4701-47D2-87F5-6FDABCBC03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7766B9-783A-4E63-8C18-8FF753FAA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2ACDA-FEC5-4188-92CF-CB8225F2DB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B2575-F343-42A7-A19C-C40779DC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51DFF9-025B-48E9-A347-8C290795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D4D5D8-AE2B-47B0-A00D-AC6CB0D32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320760"/>
            <a:ext cx="7237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1FF37C-F1D5-42FB-9DC1-BA78A812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3E1C03-BABF-4AD2-AE4B-D2528FBB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087103-8B02-454E-B31C-0A4B190B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B07032-2ADB-4698-AF69-7FC2374E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0B62F0-854F-41EB-9A72-2E22E763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E55B79-4C55-49E8-A643-8BEE3024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D5B608-5179-42A1-9E0C-CE8D800FD2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25A9B1-5D51-4296-845B-3DF9119BE0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C847B-B4E1-4EB5-BC51-DCF6C390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D7F9BE-2E79-4614-A8D4-C15FBD78325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C07092-DF76-4CE9-B5F1-FE52E0432B2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5E2FEF-B282-446E-A388-D3B06310125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FD6F32-F488-4176-8B9C-E16CE9ADFB3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320760"/>
            <a:ext cx="7237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167E92-14E6-4D27-A1F5-D85A67DFBF1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89E414-96D3-46CE-8D5D-B5F3DABAC12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7FEC04-1519-4168-80BE-147551FC4DC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473814-68B8-4799-B8A8-014A7784D9F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EBBE73-26D8-4929-B0A3-D10B11654FD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00224F-F933-4ED0-9CA1-6FC7FC45CC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93822-0EF8-408D-99DF-67C63CF60E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47B0FF-8CC2-4129-84D8-FE47B0BEC8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FDBD5-9847-44CE-8865-9D6C65BDF2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78013-5DFE-4877-9FDC-A1018F3F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96B81F-DCD4-4FCD-9EE6-4C1F1DF6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67D85-1214-414B-9523-3726C9F7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9C1F47-ACEC-4328-8C45-D4AFCC407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20760"/>
            <a:ext cx="7237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639E2-52AB-48A6-AA63-CE1C5C6D9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39A2E-005A-4391-B41F-1F3AB29A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AEB1D-A1CA-4F61-A2F9-8DBCB0E1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54881-62D3-4261-93AE-324F7687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11038-340C-4FC1-B81B-46AA0D88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A2956-D9E8-4919-97AA-9D3F3FF9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ABE9B1-EFD0-456B-8DF7-1D7F7B54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62D6C-05F6-4F7B-91A3-68BBD62558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EBEC-7E22-41F8-96C9-E51EE8E8EF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3F5B-FAB0-4DC0-803B-CF5F43BC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6D87-B4FA-4AA5-B434-ABB810BE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DE4A-9F33-4C83-AD54-B01856AB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DEA1-2163-4A2C-AE60-95BF63C53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38D49-9027-4CB6-9575-1B29D0B6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320760"/>
            <a:ext cx="7237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5CC6-7388-4C87-8D2B-7EC2617EF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2642-28CE-4BE6-9549-3FDDF5B0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262B-2745-4686-965D-96EC9842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043E-A0B9-46F1-A90C-D8B85A0C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7884-8AB1-4091-8506-0D24FAE9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767F-C9BF-4B45-BDE0-5958EAB7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ADB5-D3CA-4D8A-8E25-C4BCB50044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07A3FC-6005-4B9F-81C8-810FD8659A3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D652A7-E2D0-446B-A2CB-2A69A188E20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F598B4-BC03-4C69-8F78-8A48F13119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7D12B-BEE8-46F0-BE4E-A776988D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99302C-EFA2-4500-BD59-7238F3C895E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BB08F8-E608-43B8-A2E2-9CB83886CBD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320760"/>
            <a:ext cx="7237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4A2BEB-5584-4B5E-9DE3-897A949F895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934EF1-9541-4116-A947-8837F331267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BBA5C7-C2A7-4B7A-B709-4DAF2D5E6BF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79A9FD-EEC5-4AC6-811B-34DA6BB1CDC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FF5682-E78A-47CC-82F9-364526E70A4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516D81-3A57-449C-9F3D-F1CDD75E322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13293A-F715-4BBF-B92F-04F2FBE16AF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3CBC83-B17A-4349-8F8B-54DEC602C9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466B3-F664-474E-AE75-A8E16C61E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D9A8D4-1616-4E63-AB8D-11B517B14E4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7E1C39-23E2-4B3C-9943-669F87E2E1D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6A255F-2CB2-464F-8FB6-B33D8F46E97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CB011C-FA67-4738-AE7C-AB99A2614C5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320760"/>
            <a:ext cx="7237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8CCA50-6A3A-4ADA-99AD-3C12057DDBE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01F58F-49A1-44CA-A1BE-E8D46472725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D8CCFD-5932-4855-ABD0-43E607004C7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CD3C7E-6179-4B72-9084-8211E1C1C8F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11345E-4EAE-4546-918D-FD8AFF2744F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887840-E149-41C4-8BD4-3C96A94638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20760"/>
            <a:ext cx="7237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180EA-1320-46E8-BEFE-C8985799F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751774-DFFB-402F-B147-D08B7486040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AEB686-A5B2-4E02-BB34-EA2C4D9EC6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8754CD-4838-42F7-B7F6-B7CFB8BD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808926-0B3D-4820-A96D-65CA825F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52EA1A-52A7-4D08-ABA8-A375366B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789BF7-57B0-41A9-BB0B-8B96A0E49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320760"/>
            <a:ext cx="7237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BF14A7-2BC0-45F1-B5D1-FDFA1AE56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7C8626-38EA-4E1D-BBF0-D815C835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D7656C-31DF-46D3-AF75-3B4035B5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309FA3-1A96-4A3E-B351-A930944A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E5611-5F58-4AD8-B074-8EF70542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2D0A93-4AF4-4F35-A285-6D8B943D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A0258F-DA4A-41BB-A8E1-6BD26B19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929641-A13D-4600-A8BA-C0B8869887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0051E-9B25-49B6-B3BF-F0ECDEFD69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6F2F6-3331-4A5B-911D-C9E4B4C7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2289B-1FF6-47CB-85E6-30564E33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5282B-2CF2-4308-97C2-9609F865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453FB-18DB-4739-BBC8-277B3CA6F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320760"/>
            <a:ext cx="7237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10D02-13D8-41B7-BA05-E074AAB6B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B1B5B-F497-446D-9BE6-2D0F9471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833A4-ADE6-4A23-8070-884D18A9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02A17-C8A7-4B06-A60F-1E675AAF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6FB06-2F51-4D6F-974E-E94DE113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425FB-3F2C-49F9-81F7-37170D1D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F9570-E2BF-43EF-B78D-9BAB3497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F8B9F-05EB-40AD-9F5B-C76A9A0D65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210CB7-9AC6-403D-A9F5-2A9754F50E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CDB75B-41F8-4748-969F-C07391A4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397161-A3AB-47FD-9A80-7116A7D2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1B6400-E30D-4CE1-9D6C-BA845513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151F95-7365-4AF4-8D8D-794E6DF20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8544F-0568-4CEA-A1CE-1509FB5D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320760"/>
            <a:ext cx="7237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7CFFDD-F86F-4B1D-978C-802C70F2B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C01BB5-4A14-46C0-B14E-F2E0AA36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2E32C1-39D6-42FF-B23D-D1D6953B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56C19D-E599-415E-A4A3-3B77C90C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24F9C2-5C13-4FE8-B48B-FE13F2F9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7F8C51-5617-42CA-A8F1-57487035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B14B4B-57F4-48AC-BACA-B8A4E77F5D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B10632-45BD-4A54-A9F7-C7D14B7787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9D5C58-FB8A-441D-92BC-948CF551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3963F0-895F-4522-A5F4-77903F2D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sr-Latn-CS" sz="1400" spc="-1" strike="noStrike">
                <a:solidFill>
                  <a:srgbClr val="000000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rebuchet MS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sr-Latn-CS" sz="1400" spc="-1" strike="noStrike">
                <a:solidFill>
                  <a:srgbClr val="000000"/>
                </a:solidFill>
                <a:latin typeface="Trebuchet MS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F19A03-A57A-485D-A723-C53B6EAD5AD0}" type="slidenum">
              <a:rPr b="0" lang="sr-Latn-CS" sz="1400" spc="-1" strike="noStrike">
                <a:solidFill>
                  <a:srgbClr val="000000"/>
                </a:solidFill>
                <a:latin typeface="Trebuchet MS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"/>
          <p:cNvGrpSpPr/>
          <p:nvPr/>
        </p:nvGrpSpPr>
        <p:grpSpPr>
          <a:xfrm>
            <a:off x="8150400" y="-6480"/>
            <a:ext cx="998280" cy="6869160"/>
            <a:chOff x="8150400" y="-6480"/>
            <a:chExt cx="998280" cy="6869160"/>
          </a:xfrm>
        </p:grpSpPr>
        <p:pic>
          <p:nvPicPr>
            <p:cNvPr id="385" name="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9982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8153280" y="0"/>
              <a:ext cx="98928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9" name=""/>
          <p:cNvSpPr/>
          <p:nvPr/>
        </p:nvSpPr>
        <p:spPr>
          <a:xfrm>
            <a:off x="42465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17"/>
          </p:nvPr>
        </p:nvSpPr>
        <p:spPr>
          <a:xfrm>
            <a:off x="6251400" y="6555960"/>
            <a:ext cx="5875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1227FFB2-2C7C-433C-85E4-BE5D06B6591F}" type="slidenum">
              <a:rPr b="0" lang="en-US" sz="1100" spc="-1" strike="noStrike">
                <a:solidFill>
                  <a:srgbClr val="b13f9a"/>
                </a:solidFill>
                <a:latin typeface="Times New Roman"/>
                <a:ea typeface="Segoe U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8150400" y="-6480"/>
            <a:ext cx="998280" cy="6869160"/>
            <a:chOff x="8150400" y="-6480"/>
            <a:chExt cx="998280" cy="686916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9982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8153280" y="0"/>
              <a:ext cx="98928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4246560" y="6558120"/>
            <a:ext cx="200016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sr-Latn-CS" sz="1000" spc="-1" strike="noStrike">
                <a:solidFill>
                  <a:srgbClr val="b13f9a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000" spc="-1" strike="noStrike">
                <a:solidFill>
                  <a:srgbClr val="b13f9a"/>
                </a:solidFill>
                <a:latin typeface="Times New Roman"/>
                <a:ea typeface="Segoe U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251400" y="6555960"/>
            <a:ext cx="5875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sr-Latn-CS" sz="1100" spc="-1" strike="noStrike">
                <a:solidFill>
                  <a:srgbClr val="b13f9a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A7B70D83-90AC-4526-BDAB-5554EE1A1800}" type="slidenum">
              <a:rPr b="0" lang="sr-Latn-CS" sz="1100" spc="-1" strike="noStrike">
                <a:solidFill>
                  <a:srgbClr val="b13f9a"/>
                </a:solidFill>
                <a:latin typeface="Times New Roman"/>
                <a:ea typeface="Segoe U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5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sr-Latn-CS" sz="1200" spc="-1" strike="noStrike">
                <a:solidFill>
                  <a:srgbClr val="000000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rebuchet MS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sr-Latn-CS" sz="1200" spc="-1" strike="noStrike">
                <a:solidFill>
                  <a:srgbClr val="000000"/>
                </a:solidFill>
                <a:latin typeface="Trebuchet MS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27E05-D70A-48FB-8C3D-2F2B88704429}" type="slidenum">
              <a:rPr b="0" lang="sr-Latn-CS" sz="1200" spc="-1" strike="noStrike">
                <a:solidFill>
                  <a:srgbClr val="000000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7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4FB93-0CCE-453D-94A8-D5F526C30BD9}" type="slidenum">
              <a:rPr b="0" lang="en-US" sz="1400" spc="-1" strike="noStrike">
                <a:solidFill>
                  <a:srgbClr val="000000"/>
                </a:solidFill>
                <a:latin typeface="Trebuchet MS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8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5EE5E8-1214-4CE3-A60C-F27CF1CBCCE3}" type="slidenum">
              <a:rPr b="0" lang="en-US" sz="1400" spc="-1" strike="noStrike">
                <a:solidFill>
                  <a:srgbClr val="000000"/>
                </a:solidFill>
                <a:latin typeface="Trebuchet MS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2664000" y="-6480"/>
            <a:ext cx="6484680" cy="6869160"/>
            <a:chOff x="2664000" y="-6480"/>
            <a:chExt cx="6484680" cy="6869160"/>
          </a:xfrm>
        </p:grpSpPr>
        <p:pic>
          <p:nvPicPr>
            <p:cNvPr id="209" name="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46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2666880" y="0"/>
              <a:ext cx="647568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 flipV="1">
            <a:off x="2666880" y="-1440"/>
            <a:ext cx="1800" cy="6860880"/>
          </a:xfrm>
          <a:prstGeom prst="line">
            <a:avLst/>
          </a:prstGeom>
          <a:ln cap="sq"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9"/>
          </p:nvPr>
        </p:nvSpPr>
        <p:spPr>
          <a:xfrm>
            <a:off x="5870160" y="6558120"/>
            <a:ext cx="200196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6558120"/>
            <a:ext cx="2927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0"/>
          </p:nvPr>
        </p:nvSpPr>
        <p:spPr>
          <a:xfrm>
            <a:off x="7880040" y="6555960"/>
            <a:ext cx="58716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sr-Latn-CS" sz="11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25D79D55-1A29-4910-9D38-7AD77A4B5687}" type="slidenum">
              <a:rPr b="0" lang="sr-Latn-CS" sz="11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8150400" y="-6480"/>
            <a:ext cx="998280" cy="6869160"/>
            <a:chOff x="8150400" y="-6480"/>
            <a:chExt cx="998280" cy="6869160"/>
          </a:xfrm>
        </p:grpSpPr>
        <p:pic>
          <p:nvPicPr>
            <p:cNvPr id="254" name="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9982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8153280" y="0"/>
              <a:ext cx="98928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1"/>
          </p:nvPr>
        </p:nvSpPr>
        <p:spPr>
          <a:xfrm>
            <a:off x="4723920" y="6556320"/>
            <a:ext cx="200052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sr-Latn-CS" sz="1000" spc="-1" strike="noStrike">
                <a:solidFill>
                  <a:srgbClr val="b13f9a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000" spc="-1" strike="noStrike">
                <a:solidFill>
                  <a:srgbClr val="b13f9a"/>
                </a:solidFill>
                <a:latin typeface="Times New Roman"/>
                <a:ea typeface="Segoe U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35200" y="6556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sldNum" idx="12"/>
          </p:nvPr>
        </p:nvSpPr>
        <p:spPr>
          <a:xfrm>
            <a:off x="6733800" y="6554880"/>
            <a:ext cx="585720" cy="2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sr-Latn-CS" sz="1100" spc="-1" strike="noStrike">
                <a:solidFill>
                  <a:srgbClr val="b13f9a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F9624F05-E39C-47EA-AE23-98BA8505B416}" type="slidenum">
              <a:rPr b="0" lang="sr-Latn-CS" sz="1100" spc="-1" strike="noStrike">
                <a:solidFill>
                  <a:srgbClr val="b13f9a"/>
                </a:solidFill>
                <a:latin typeface="Times New Roman"/>
                <a:ea typeface="Segoe U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21240000">
            <a:off x="596880" y="10065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3"/>
          </p:nvPr>
        </p:nvSpPr>
        <p:spPr>
          <a:xfrm>
            <a:off x="4246560" y="6558120"/>
            <a:ext cx="200016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sr-Latn-CS" sz="1000" spc="-1" strike="noStrike">
                <a:solidFill>
                  <a:srgbClr val="f4e7ed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000" spc="-1" strike="noStrike">
                <a:solidFill>
                  <a:srgbClr val="f4e7ed"/>
                </a:solidFill>
                <a:latin typeface="Times New Roman"/>
                <a:ea typeface="Segoe U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sldNum" idx="14"/>
          </p:nvPr>
        </p:nvSpPr>
        <p:spPr>
          <a:xfrm>
            <a:off x="6251400" y="6555960"/>
            <a:ext cx="5875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sr-Latn-CS" sz="1100" spc="-1" strike="noStrike">
                <a:solidFill>
                  <a:srgbClr val="f4e7ed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37E55B75-1C5C-44B0-8085-0EB790C60C96}" type="slidenum">
              <a:rPr b="0" lang="sr-Latn-CS" sz="1100" spc="-1" strike="noStrike">
                <a:solidFill>
                  <a:srgbClr val="f4e7ed"/>
                </a:solidFill>
                <a:latin typeface="Times New Roman"/>
                <a:ea typeface="Segoe U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"/>
          <p:cNvGrpSpPr/>
          <p:nvPr/>
        </p:nvGrpSpPr>
        <p:grpSpPr>
          <a:xfrm>
            <a:off x="8150400" y="-6480"/>
            <a:ext cx="998280" cy="6869160"/>
            <a:chOff x="8150400" y="-6480"/>
            <a:chExt cx="998280" cy="6869160"/>
          </a:xfrm>
        </p:grpSpPr>
        <p:pic>
          <p:nvPicPr>
            <p:cNvPr id="341" name="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9982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153280" y="0"/>
              <a:ext cx="98928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7440" cy="1141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15"/>
          </p:nvPr>
        </p:nvSpPr>
        <p:spPr>
          <a:xfrm>
            <a:off x="4243320" y="6558120"/>
            <a:ext cx="200016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sr-Latn-CS" sz="1000" spc="-1" strike="noStrike">
                <a:solidFill>
                  <a:srgbClr val="b13f9a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000" spc="-1" strike="noStrike">
                <a:solidFill>
                  <a:srgbClr val="b13f9a"/>
                </a:solidFill>
                <a:latin typeface="Times New Roman"/>
                <a:ea typeface="Segoe U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" y="65563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sldNum" idx="16"/>
          </p:nvPr>
        </p:nvSpPr>
        <p:spPr>
          <a:xfrm>
            <a:off x="6254280" y="6552720"/>
            <a:ext cx="5857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sr-Latn-CS" sz="1100" spc="-1" strike="noStrike">
                <a:solidFill>
                  <a:srgbClr val="b13f9a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0522F2CB-0253-45B4-9569-D2263B60DEFA}" type="slidenum">
              <a:rPr b="0" lang="sr-Latn-CS" sz="1100" spc="-1" strike="noStrike">
                <a:solidFill>
                  <a:srgbClr val="b13f9a"/>
                </a:solidFill>
                <a:latin typeface="Times New Roman"/>
                <a:ea typeface="Segoe U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0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0" y="5288040"/>
            <a:ext cx="257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е струковне студије-прва година студ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колска 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/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714760" y="500076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ф. Др Радојица Стол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3419640" y="281160"/>
            <a:ext cx="5211720" cy="28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285840" y="1928880"/>
            <a:ext cx="771516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71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rebuchet MS"/>
                <a:ea typeface="Microsoft YaHei"/>
              </a:rPr>
              <a:t>Промене у изгледу мокраћ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Млечно бела боја </a:t>
            </a:r>
            <a:r>
              <a:rPr b="0" lang="sr-CS" sz="20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(преципитовани фосфати, пиурија, масне кап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Жута боја </a:t>
            </a:r>
            <a:r>
              <a:rPr b="0" lang="sr-CS" sz="20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(билирубин, нитрофурантоин, сулфасалазин, уробилин, рибофлав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Смеђе-црвена боја</a:t>
            </a:r>
            <a:r>
              <a:rPr b="0" lang="sr-CS" sz="20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(меланин, метилдопа, порфобилин, метронидазол, кин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Плаво-зелена боја</a:t>
            </a:r>
            <a:r>
              <a:rPr b="0" lang="sr-CS" sz="20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(инфекција 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Pseudomonas</a:t>
            </a:r>
            <a:r>
              <a:rPr b="0" lang="sr-CS" sz="20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-ом, биливердин, метилен плав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457200" y="160956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300" spc="-1" strike="noStrike" u="sng">
                <a:solidFill>
                  <a:srgbClr val="000000"/>
                </a:solidFill>
                <a:uFillTx/>
                <a:latin typeface="Trebuchet MS"/>
                <a:ea typeface="Microsoft YaHei"/>
              </a:rPr>
              <a:t>Потмули, обострани болови</a:t>
            </a:r>
            <a:r>
              <a:rPr b="1" lang="ru-RU" sz="2300" spc="-1" strike="noStrike" u="sng">
                <a:solidFill>
                  <a:srgbClr val="000000"/>
                </a:solidFill>
                <a:uFillTx/>
                <a:latin typeface="Trebuchet MS"/>
                <a:ea typeface="Microsoft YaHei"/>
              </a:rPr>
              <a:t>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Trebuchet MS"/>
                <a:ea typeface="Microsoft YaHei"/>
              </a:rPr>
              <a:t>у лумбалним ложама </a:t>
            </a:r>
            <a:r>
              <a:rPr b="0" lang="ru-RU" sz="23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који су праћени тамном мокраћом, благим едемима, главобољом, ХТА, побуђују сумњу на ГНФ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300" spc="-1" strike="noStrike" u="sng">
                <a:solidFill>
                  <a:srgbClr val="000000"/>
                </a:solidFill>
                <a:uFillTx/>
                <a:latin typeface="Trebuchet MS"/>
                <a:ea typeface="Microsoft YaHei"/>
              </a:rPr>
              <a:t>Једнострани или обострани болови, праћени учесталим болним мокрењем, повишеном температуром</a:t>
            </a:r>
            <a:r>
              <a:rPr b="0" lang="ru-RU" sz="23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, јављају се код ИТУ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300" spc="-1" strike="noStrike" u="sng">
                <a:solidFill>
                  <a:srgbClr val="000000"/>
                </a:solidFill>
                <a:uFillTx/>
                <a:latin typeface="Trebuchet MS"/>
                <a:ea typeface="Microsoft YaHei"/>
              </a:rPr>
              <a:t>Тупи, трајни болови у лумбалном пределу, праћени високом температуром, изразитом осетљивошћу бубрежних ложа </a:t>
            </a:r>
            <a:r>
              <a:rPr b="0" lang="ru-RU" sz="23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(понекад црвенило и оток коже) знак су перинефритиса, запаљења бубрега или перинефритичког апсцес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285840" y="1928880"/>
            <a:ext cx="778644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17520" indent="-3175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"/>
              <a:tabLst>
                <a:tab algn="l" pos="957240"/>
                <a:tab algn="l" pos="1871640"/>
                <a:tab algn="l" pos="2786040"/>
                <a:tab algn="l" pos="3700440"/>
                <a:tab algn="l" pos="4614840"/>
                <a:tab algn="l" pos="5529240"/>
                <a:tab algn="l" pos="6443640"/>
                <a:tab algn="l" pos="7358040"/>
                <a:tab algn="l" pos="8272440"/>
                <a:tab algn="l" pos="9186840"/>
                <a:tab algn="l" pos="10101240"/>
                <a:tab algn="l" pos="10515600"/>
              </a:tabLst>
            </a:pPr>
            <a:r>
              <a:rPr b="0" lang="ru-RU" sz="2300" spc="-1" strike="noStrike" u="sng">
                <a:solidFill>
                  <a:srgbClr val="000000"/>
                </a:solidFill>
                <a:uFillTx/>
                <a:latin typeface="Trebuchet MS"/>
                <a:ea typeface="Microsoft YaHei"/>
              </a:rPr>
              <a:t>Напад жестоких болова типа колика</a:t>
            </a:r>
            <a:r>
              <a:rPr b="0" lang="ru-RU" sz="23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, који полази од једног бубрега и шире се дуж уретера ка полним органима или унутрашњој страни бутине, највероватније су последица померања камена из пијелона кроз уретер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"/>
              <a:tabLst>
                <a:tab algn="l" pos="957240"/>
                <a:tab algn="l" pos="1871640"/>
                <a:tab algn="l" pos="2786040"/>
                <a:tab algn="l" pos="3700440"/>
                <a:tab algn="l" pos="4614840"/>
                <a:tab algn="l" pos="5529240"/>
                <a:tab algn="l" pos="6443640"/>
                <a:tab algn="l" pos="7358040"/>
                <a:tab algn="l" pos="8272440"/>
                <a:tab algn="l" pos="9186840"/>
                <a:tab algn="l" pos="10101240"/>
                <a:tab algn="l" pos="105156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Ове болове често прати учестало мокрење, појава крви у мокраћи, мука и повраћање, често знаци паралитичког илеуса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57240"/>
                <a:tab algn="l" pos="1871640"/>
                <a:tab algn="l" pos="2786040"/>
                <a:tab algn="l" pos="3700440"/>
                <a:tab algn="l" pos="4614840"/>
                <a:tab algn="l" pos="5529240"/>
                <a:tab algn="l" pos="6443640"/>
                <a:tab algn="l" pos="7358040"/>
                <a:tab algn="l" pos="8272440"/>
                <a:tab algn="l" pos="9186840"/>
                <a:tab algn="l" pos="10101240"/>
                <a:tab algn="l" pos="105156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   </a:t>
            </a:r>
            <a:r>
              <a:rPr b="0" lang="ru-RU" sz="23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Локализација бола указује на локализацију камен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57240"/>
                <a:tab algn="l" pos="1871640"/>
                <a:tab algn="l" pos="2786040"/>
                <a:tab algn="l" pos="3700440"/>
                <a:tab algn="l" pos="4614840"/>
                <a:tab algn="l" pos="5529240"/>
                <a:tab algn="l" pos="6443640"/>
                <a:tab algn="l" pos="7358040"/>
                <a:tab algn="l" pos="8272440"/>
                <a:tab algn="l" pos="9186840"/>
                <a:tab algn="l" pos="10101240"/>
                <a:tab algn="l" pos="105156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"/>
              <a:tabLst>
                <a:tab algn="l" pos="957240"/>
                <a:tab algn="l" pos="1871640"/>
                <a:tab algn="l" pos="2786040"/>
                <a:tab algn="l" pos="3700440"/>
                <a:tab algn="l" pos="4614840"/>
                <a:tab algn="l" pos="5529240"/>
                <a:tab algn="l" pos="6443640"/>
                <a:tab algn="l" pos="7358040"/>
                <a:tab algn="l" pos="8272440"/>
                <a:tab algn="l" pos="9186840"/>
                <a:tab algn="l" pos="10101240"/>
                <a:tab algn="l" pos="105156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Упалу мокраћне бешике прате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Trebuchet MS"/>
                <a:ea typeface="Microsoft YaHei"/>
              </a:rPr>
              <a:t>супрапубични болови </a:t>
            </a:r>
            <a:r>
              <a:rPr b="0" lang="ru-RU" sz="23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и често мокрење са боловима и </a:t>
            </a:r>
            <a:r>
              <a:rPr b="0" lang="sr-CS" sz="23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осећајем пецкања</a:t>
            </a:r>
            <a:r>
              <a:rPr b="0" lang="ru-RU" sz="23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при мокрењу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285840" y="1643040"/>
            <a:ext cx="757224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17520" indent="-3175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"/>
              <a:tabLst>
                <a:tab algn="l" pos="957240"/>
                <a:tab algn="l" pos="1871640"/>
                <a:tab algn="l" pos="2786040"/>
                <a:tab algn="l" pos="3700440"/>
                <a:tab algn="l" pos="4614840"/>
                <a:tab algn="l" pos="5529240"/>
                <a:tab algn="l" pos="6443640"/>
                <a:tab algn="l" pos="7358040"/>
                <a:tab algn="l" pos="8272440"/>
                <a:tab algn="l" pos="9186840"/>
                <a:tab algn="l" pos="10101240"/>
                <a:tab algn="l" pos="10515600"/>
              </a:tabLst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Trebuchet MS"/>
                <a:ea typeface="Microsoft YaHei"/>
              </a:rPr>
              <a:t>Едеми бубрежног порекла </a:t>
            </a:r>
            <a:r>
              <a:rPr b="0" lang="ru-RU" sz="25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јављају се или због протеинурије или због смањења гломерулске филтрације или ређе због опструкције мокраћних путева, по правилу су на очним капцима, лицу или на екстремитетима и телу; бледи су, топли и тестасти, нису подложни утицају гравитације па се, обично, примете изјут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"/>
              <a:tabLst>
                <a:tab algn="l" pos="957240"/>
                <a:tab algn="l" pos="1871640"/>
                <a:tab algn="l" pos="2786040"/>
                <a:tab algn="l" pos="3700440"/>
                <a:tab algn="l" pos="4614840"/>
                <a:tab algn="l" pos="5529240"/>
                <a:tab algn="l" pos="6443640"/>
                <a:tab algn="l" pos="7358040"/>
                <a:tab algn="l" pos="8272440"/>
                <a:tab algn="l" pos="9186840"/>
                <a:tab algn="l" pos="10101240"/>
                <a:tab algn="l" pos="10515600"/>
              </a:tabLst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Trebuchet MS"/>
                <a:ea typeface="Microsoft YaHei"/>
              </a:rPr>
              <a:t>Симптоми и знаци уремијског синдрома </a:t>
            </a:r>
            <a:r>
              <a:rPr b="0" lang="ru-RU" sz="25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(</a:t>
            </a:r>
            <a:r>
              <a:rPr b="0" i="1" lang="sr-Latn-CS" sz="2500" spc="-1" strike="noStrike">
                <a:solidFill>
                  <a:srgbClr val="000000"/>
                </a:solidFill>
                <a:latin typeface="Calibri"/>
                <a:ea typeface="Microsoft YaHei"/>
              </a:rPr>
              <a:t>Kussmaul</a:t>
            </a:r>
            <a:r>
              <a:rPr b="0" lang="ru-RU" sz="25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-ово дисање, уремијски задах, хеморагијски синдром, грчеви, најчешће у потколеницама, понекад и генерализовани, поремећај свести од сомноленције, преко сопора до коме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642960" y="1785960"/>
            <a:ext cx="67867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rebuchet MS"/>
                <a:ea typeface="Microsoft YaHei"/>
              </a:rPr>
              <a:t>Ур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Бој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хематурија, порфирија, употреба лек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и уношење одређене х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Мири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амонијакалан мирис, устајали мирис, мирис трулог воћа, мирис на аце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Колич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(1200-2000 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l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/24</a:t>
            </a:r>
            <a:r>
              <a:rPr b="0" i="1" lang="sr-Latn-CS" sz="2400" spc="-1" strike="noStrike" baseline="30000">
                <a:solidFill>
                  <a:srgbClr val="000000"/>
                </a:solidFill>
                <a:latin typeface="Calibri"/>
                <a:ea typeface="Microsoft YaHei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285840" y="285840"/>
            <a:ext cx="7715160" cy="65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Реакција мокраће (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pH</a:t>
            </a:r>
            <a:r>
              <a:rPr b="0" lang="sr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4.4-8.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Специфична тежина мокраће (1015-10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Беланчевине у урину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: к</a:t>
            </a:r>
            <a:r>
              <a:rPr b="0" lang="sr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валитативно (сулфосалицилном киселином, кувањем, тест тракама) и квантитативно (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Biuret</a:t>
            </a:r>
            <a:r>
              <a:rPr b="0" lang="sr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и 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Esbach</a:t>
            </a:r>
            <a:r>
              <a:rPr b="0" lang="sr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Уробилиног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Гликозу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Кетонска 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Хемату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При микроскопском прегледу седимента урина могу се у њему наћи бактерије, гљивице или сперматозои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Бактериолошко испитивање (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UK</a:t>
            </a:r>
            <a:r>
              <a:rPr b="0" lang="sr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Урин на Левенштајн (</a:t>
            </a:r>
            <a:r>
              <a:rPr b="0" i="1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PCR</a:t>
            </a:r>
            <a:r>
              <a:rPr b="0" lang="sr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571680" y="2071800"/>
            <a:ext cx="7143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Клинички значај хематуриј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огледа се у промени облика еритроц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Смежурани пролазе ГБ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Свежи настају у дисталним партијама мокраћних пут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285840" y="1714680"/>
            <a:ext cx="750096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епителне ћелиј</a:t>
            </a:r>
            <a:r>
              <a:rPr b="0" lang="sr-CS" sz="22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е (из површног епителног слоја мокраћ. путев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леукоцити</a:t>
            </a:r>
            <a:r>
              <a:rPr b="0" lang="sr-CS" sz="22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(већина су ПМНЛ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еритроцити</a:t>
            </a:r>
            <a:r>
              <a:rPr b="0" lang="sr-CS" sz="22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(бубрежног или ванбубрежног порекл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цилиндри </a:t>
            </a:r>
            <a:r>
              <a:rPr b="0" lang="sr-CS" sz="22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(одливци тубула)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хијалини-код сваке протеинурије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гранулисани-протеинска супстанца и дегенерисане туб. ћелије, еритроцитни-доказ су да је крвављење бубрежног порекл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леукоцитни-последица запаљењског оштећења епитела тубула и настају агломерацијом на цилиндре другог порекла, воштани-настају у патолошки проширеним тубули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468360" y="1916280"/>
            <a:ext cx="7461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за идентификацију малигних ћелија у ури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н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алаз треба понављ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атипичне ћелије у урину нису увек потврда малигнитета (нефролитијаза и запаљенске болести уротрак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133200" y="3267000"/>
            <a:ext cx="8169480" cy="15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255600" y="219240"/>
            <a:ext cx="7450200" cy="64584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457200" y="928800"/>
            <a:ext cx="352116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Паран орган,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смештен ретроперитонеал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Дијаметар: 10-12 цм, 4-6 цм, 2 ц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Укупна тежина бубрега је око 300 г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Положени су у висин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12.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ребра, десни ниже од лев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Десни хипохондриј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Леви хипохондриј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Десни лумбални преде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Леви лумбални преде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Пубични преде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мокраћна беш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17816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2"/>
          <a:srcRect l="15712" t="0" r="12499" b="0"/>
          <a:stretch/>
        </p:blipFill>
        <p:spPr>
          <a:xfrm>
            <a:off x="4143240" y="1071720"/>
            <a:ext cx="3571920" cy="51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468360" y="1643040"/>
            <a:ext cx="753264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17520" indent="-3175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57240"/>
                <a:tab algn="l" pos="1871640"/>
                <a:tab algn="l" pos="2786040"/>
                <a:tab algn="l" pos="3700440"/>
                <a:tab algn="l" pos="4614840"/>
                <a:tab algn="l" pos="5529240"/>
                <a:tab algn="l" pos="6443640"/>
                <a:tab algn="l" pos="7358040"/>
                <a:tab algn="l" pos="8272440"/>
                <a:tab algn="l" pos="9186840"/>
                <a:tab algn="l" pos="1010124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Јачина бубрежног протока плазме (ЈБПП) представља меру  којом се целокупна количина одређене супстанције из плазме, у јединици времена, излучи урин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7240"/>
                <a:tab algn="l" pos="1871640"/>
                <a:tab algn="l" pos="2786040"/>
                <a:tab algn="l" pos="3700440"/>
                <a:tab algn="l" pos="4614840"/>
                <a:tab algn="l" pos="5529240"/>
                <a:tab algn="l" pos="6443640"/>
                <a:tab algn="l" pos="7358040"/>
                <a:tab algn="l" pos="8272440"/>
                <a:tab algn="l" pos="9186840"/>
                <a:tab algn="l" pos="1010124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57240"/>
                <a:tab algn="l" pos="1871640"/>
                <a:tab algn="l" pos="2786040"/>
                <a:tab algn="l" pos="3700440"/>
                <a:tab algn="l" pos="4614840"/>
                <a:tab algn="l" pos="5529240"/>
                <a:tab algn="l" pos="6443640"/>
                <a:tab algn="l" pos="7358040"/>
                <a:tab algn="l" pos="8272440"/>
                <a:tab algn="l" pos="9186840"/>
                <a:tab algn="l" pos="1010124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За одређивање јачине протока плазме кроз бубреге користи се супстанца која се излучује ГФ и активном ТЕ (клиренс ПАХ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7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7240"/>
                <a:tab algn="l" pos="1871640"/>
                <a:tab algn="l" pos="2786040"/>
                <a:tab algn="l" pos="3700440"/>
                <a:tab algn="l" pos="4614840"/>
                <a:tab algn="l" pos="5529240"/>
                <a:tab algn="l" pos="6443640"/>
                <a:tab algn="l" pos="7358040"/>
                <a:tab algn="l" pos="8272440"/>
                <a:tab algn="l" pos="9186840"/>
                <a:tab algn="l" pos="1010124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57240"/>
                <a:tab algn="l" pos="1871640"/>
                <a:tab algn="l" pos="2786040"/>
                <a:tab algn="l" pos="3700440"/>
                <a:tab algn="l" pos="4614840"/>
                <a:tab algn="l" pos="5529240"/>
                <a:tab algn="l" pos="6443640"/>
                <a:tab algn="l" pos="7358040"/>
                <a:tab algn="l" pos="8272440"/>
                <a:tab algn="l" pos="9186840"/>
                <a:tab algn="l" pos="1010124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Једноставније одређивање ЈБПП је изотопским методам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Calibri"/>
                <a:ea typeface="Microsoft YaHei"/>
              </a:rPr>
              <a:t>125</a:t>
            </a:r>
            <a:r>
              <a:rPr b="0" i="1" lang="sr-Latn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I-hipurat</a:t>
            </a:r>
            <a:r>
              <a:rPr b="0" i="1" lang="sr-R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(нормална ЈБПП - 625</a:t>
            </a:r>
            <a:r>
              <a:rPr b="1" lang="sr-Latn-CS" sz="2600" spc="-1" strike="noStrike">
                <a:solidFill>
                  <a:srgbClr val="ff3300"/>
                </a:solidFill>
                <a:latin typeface="Calibri"/>
                <a:ea typeface="Microsoft YaHei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ml/mi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65240" y="353880"/>
            <a:ext cx="7845120" cy="8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395280" y="1844640"/>
            <a:ext cx="76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9480" indent="-60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5156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rebuchet MS"/>
                <a:ea typeface="Microsoft YaHei"/>
              </a:rPr>
              <a:t>Одређивање јачине гломерулске филтр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Клиренс инулина </a:t>
            </a:r>
            <a:r>
              <a:rPr b="0" lang="sr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(филтрује се у гломерулима, а не реабсорбује нити екскретује у тубулим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Клиренс ендогеног креатинина </a:t>
            </a:r>
            <a:r>
              <a:rPr b="0" lang="sr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(излучује се у гломерулима, незнатно се секретује у проксималним тубулима, зато за 20% показује веће вредности од реални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1249200"/>
                <a:tab algn="l" pos="2163600"/>
                <a:tab algn="l" pos="3078000"/>
                <a:tab algn="l" pos="3992400"/>
                <a:tab algn="l" pos="4906800"/>
                <a:tab algn="l" pos="5821200"/>
                <a:tab algn="l" pos="6735600"/>
                <a:tab algn="l" pos="7650000"/>
                <a:tab algn="l" pos="8564400"/>
                <a:tab algn="l" pos="9478800"/>
                <a:tab algn="l" pos="103932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Радионуклеидне методе (</a:t>
            </a:r>
            <a:r>
              <a:rPr b="0" lang="sr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изотопски обележени егзогени маркер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165240" y="353880"/>
            <a:ext cx="7845120" cy="8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268200" y="66600"/>
            <a:ext cx="8425080" cy="65268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115920" y="762120"/>
            <a:ext cx="7985160" cy="60530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3071880" y="5504040"/>
            <a:ext cx="5000400" cy="9169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рењем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sr-Latn-CS" sz="2000" spc="-1" strike="noStrike">
                <a:solidFill>
                  <a:srgbClr val="ffffff"/>
                </a:solidFill>
                <a:latin typeface="Arial"/>
              </a:rPr>
              <a:t>pH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краће и концентрације бикарбоната у плазми може указати н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истемску ацидо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115920" y="208080"/>
            <a:ext cx="7961400" cy="636876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 rot="19680000">
            <a:off x="220680" y="777600"/>
            <a:ext cx="2119320" cy="901440"/>
          </a:xfrm>
          <a:custGeom>
            <a:avLst/>
            <a:gdLst>
              <a:gd name="textAreaLeft" fmla="*/ 431280 w 2119320"/>
              <a:gd name="textAreaRight" fmla="*/ 1519200 w 2119320"/>
              <a:gd name="textAreaTop" fmla="*/ 120600 h 901440"/>
              <a:gd name="textAreaBottom" fmla="*/ 780840 h 901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92" hR="21600" stAng="10800000" swAng="5400000"/>
                <a:lnTo>
                  <a:pt x="11089" y="0"/>
                </a:lnTo>
                <a:arcTo wR="8792" hR="21600" stAng="-5400000" swAng="2934071"/>
                <a:lnTo>
                  <a:pt x="21093" y="14373"/>
                </a:lnTo>
                <a:lnTo>
                  <a:pt x="18732" y="21600"/>
                </a:lnTo>
                <a:lnTo>
                  <a:pt x="15356" y="14373"/>
                </a:lnTo>
                <a:lnTo>
                  <a:pt x="17076" y="14373"/>
                </a:lnTo>
                <a:arcTo wR="8792" hR="21600" stAng="-2465929" swAng="-2749878"/>
                <a:lnTo>
                  <a:pt x="9940" y="185"/>
                </a:lnTo>
                <a:arcTo wR="8792" hR="21600" stAng="-5584193" swAng="-5215807"/>
                <a:close/>
              </a:path>
              <a:path fill="darkenLess" w="21600" h="21600">
                <a:moveTo>
                  <a:pt x="0" y="21600"/>
                </a:moveTo>
                <a:arcTo wR="8792" hR="21600" stAng="10800000" swAng="5400000"/>
                <a:lnTo>
                  <a:pt x="8792" y="0"/>
                </a:lnTo>
                <a:arcTo wR="8792" hR="21600" stAng="-5400000" swAng="184193"/>
                <a:lnTo>
                  <a:pt x="9940" y="185"/>
                </a:lnTo>
                <a:arcTo wR="8792" hR="21600" stAng="-5584193" swAng="-5215807"/>
                <a:close/>
              </a:path>
            </a:pathLst>
          </a:custGeom>
          <a:solidFill>
            <a:srgbClr val="b83d68"/>
          </a:solidFill>
          <a:ln cap="sq"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rot="13860000">
            <a:off x="5948280" y="788400"/>
            <a:ext cx="1554120" cy="922320"/>
          </a:xfrm>
          <a:custGeom>
            <a:avLst/>
            <a:gdLst>
              <a:gd name="textAreaLeft" fmla="*/ 334800 w 1554120"/>
              <a:gd name="textAreaRight" fmla="*/ 1235160 w 1554120"/>
              <a:gd name="textAreaTop" fmla="*/ 123480 h 922320"/>
              <a:gd name="textAreaBottom" fmla="*/ 798840 h 92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308" hR="21600" stAng="10800000" swAng="-5400000"/>
                <a:lnTo>
                  <a:pt x="12513" y="21600"/>
                </a:lnTo>
                <a:arcTo wR="9308" hR="21600" stAng="5400000" swAng="-3504841"/>
                <a:lnTo>
                  <a:pt x="21290" y="5532"/>
                </a:lnTo>
                <a:lnTo>
                  <a:pt x="20218" y="0"/>
                </a:lnTo>
                <a:lnTo>
                  <a:pt x="18525" y="5532"/>
                </a:lnTo>
                <a:lnTo>
                  <a:pt x="18305" y="5532"/>
                </a:lnTo>
                <a:arcTo wR="9308" hR="21600" stAng="1895159" swAng="3246417"/>
                <a:lnTo>
                  <a:pt x="10910" y="21277"/>
                </a:lnTo>
                <a:arcTo wR="9308" hR="21600" stAng="5658424" swAng="5141576"/>
                <a:close/>
              </a:path>
              <a:path fill="darkenLess" w="21600" h="21600">
                <a:moveTo>
                  <a:pt x="0" y="0"/>
                </a:moveTo>
                <a:arcTo wR="9308" hR="21600" stAng="10800000" swAng="-5400000"/>
                <a:lnTo>
                  <a:pt x="12513" y="21600"/>
                </a:lnTo>
                <a:arcTo wR="9308" hR="21600" stAng="5400000" swAng="258424"/>
                <a:lnTo>
                  <a:pt x="10910" y="21277"/>
                </a:lnTo>
                <a:arcTo wR="9308" hR="21600" stAng="5658424" swAng="5141576"/>
                <a:close/>
              </a:path>
            </a:pathLst>
          </a:custGeom>
          <a:solidFill>
            <a:srgbClr val="b83d68"/>
          </a:solidFill>
          <a:ln cap="sq"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285840" y="5594400"/>
            <a:ext cx="1927080" cy="833400"/>
            <a:chOff x="285840" y="5594400"/>
            <a:chExt cx="1927080" cy="833400"/>
          </a:xfrm>
        </p:grpSpPr>
        <p:sp>
          <p:nvSpPr>
            <p:cNvPr id="493" name=""/>
            <p:cNvSpPr/>
            <p:nvPr/>
          </p:nvSpPr>
          <p:spPr>
            <a:xfrm>
              <a:off x="285840" y="5594400"/>
              <a:ext cx="1927080" cy="833400"/>
            </a:xfrm>
            <a:prstGeom prst="rect">
              <a:avLst/>
            </a:prstGeom>
            <a:solidFill>
              <a:srgbClr val="ff0000"/>
            </a:solidFill>
            <a:ln cap="sq" w="399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85840" y="5594400"/>
              <a:ext cx="1927080" cy="83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sr-RS" sz="2000" spc="-1" strike="noStrike">
                  <a:solidFill>
                    <a:srgbClr val="ffffff"/>
                  </a:solidFill>
                  <a:latin typeface="Trebuchet MS"/>
                </a:rPr>
                <a:t>Волуме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5929200" y="5646600"/>
            <a:ext cx="2141640" cy="781200"/>
            <a:chOff x="5929200" y="5646600"/>
            <a:chExt cx="2141640" cy="781200"/>
          </a:xfrm>
        </p:grpSpPr>
        <p:sp>
          <p:nvSpPr>
            <p:cNvPr id="496" name=""/>
            <p:cNvSpPr/>
            <p:nvPr/>
          </p:nvSpPr>
          <p:spPr>
            <a:xfrm>
              <a:off x="5929200" y="5646600"/>
              <a:ext cx="2141640" cy="781200"/>
            </a:xfrm>
            <a:prstGeom prst="rect">
              <a:avLst/>
            </a:prstGeom>
            <a:solidFill>
              <a:srgbClr val="ff0000"/>
            </a:solidFill>
            <a:ln cap="sq" w="399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929200" y="5646600"/>
              <a:ext cx="2141640" cy="7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sr-RS" sz="1800" spc="-1" strike="noStrike">
                  <a:solidFill>
                    <a:srgbClr val="ffffff"/>
                  </a:solidFill>
                  <a:latin typeface="Trebuchet MS"/>
                </a:rPr>
                <a:t>Концентрација честица у урин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 rot="19680000">
            <a:off x="331560" y="4331880"/>
            <a:ext cx="2028600" cy="760320"/>
          </a:xfrm>
          <a:custGeom>
            <a:avLst/>
            <a:gdLst>
              <a:gd name="textAreaLeft" fmla="*/ 424080 w 2028600"/>
              <a:gd name="textAreaRight" fmla="*/ 1462320 w 2028600"/>
              <a:gd name="textAreaTop" fmla="*/ 101880 h 760320"/>
              <a:gd name="textAreaBottom" fmla="*/ 658440 h 760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31" hR="21600" stAng="10800000" swAng="5400000"/>
                <a:lnTo>
                  <a:pt x="11055" y="0"/>
                </a:lnTo>
                <a:arcTo wR="9031" hR="21600" stAng="-5400000" swAng="3358975"/>
                <a:lnTo>
                  <a:pt x="21261" y="15734"/>
                </a:lnTo>
                <a:lnTo>
                  <a:pt x="19073" y="21600"/>
                </a:lnTo>
                <a:lnTo>
                  <a:pt x="16207" y="15734"/>
                </a:lnTo>
                <a:lnTo>
                  <a:pt x="17722" y="15734"/>
                </a:lnTo>
                <a:arcTo wR="9031" hR="21600" stAng="-2041025" swAng="-3197009"/>
                <a:lnTo>
                  <a:pt x="10043" y="136"/>
                </a:lnTo>
                <a:arcTo wR="9031" hR="21600" stAng="-5561966" swAng="-5238034"/>
                <a:close/>
              </a:path>
              <a:path fill="darkenLess" w="21600" h="21600">
                <a:moveTo>
                  <a:pt x="0" y="21600"/>
                </a:moveTo>
                <a:arcTo wR="9031" hR="21600" stAng="10800000" swAng="5400000"/>
                <a:lnTo>
                  <a:pt x="9031" y="0"/>
                </a:lnTo>
                <a:arcTo wR="9031" hR="21600" stAng="-5400000" swAng="161966"/>
                <a:lnTo>
                  <a:pt x="10043" y="136"/>
                </a:lnTo>
                <a:arcTo wR="9031" hR="21600" stAng="-5561966" swAng="-5238034"/>
                <a:close/>
              </a:path>
            </a:pathLst>
          </a:custGeom>
          <a:solidFill>
            <a:srgbClr val="b83d68"/>
          </a:solidFill>
          <a:ln cap="sq"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13860000">
            <a:off x="5917320" y="4342320"/>
            <a:ext cx="1473120" cy="855720"/>
          </a:xfrm>
          <a:custGeom>
            <a:avLst/>
            <a:gdLst>
              <a:gd name="textAreaLeft" fmla="*/ 309960 w 1473120"/>
              <a:gd name="textAreaRight" fmla="*/ 1144080 w 1473120"/>
              <a:gd name="textAreaTop" fmla="*/ 114480 h 855720"/>
              <a:gd name="textAreaBottom" fmla="*/ 741240 h 85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092" hR="21600" stAng="10800000" swAng="-5400000"/>
                <a:lnTo>
                  <a:pt x="12229" y="21600"/>
                </a:lnTo>
                <a:arcTo wR="9092" hR="21600" stAng="5400000" swAng="-3468636"/>
                <a:lnTo>
                  <a:pt x="21297" y="5532"/>
                </a:lnTo>
                <a:lnTo>
                  <a:pt x="19752" y="0"/>
                </a:lnTo>
                <a:lnTo>
                  <a:pt x="17600" y="5532"/>
                </a:lnTo>
                <a:lnTo>
                  <a:pt x="17880" y="5532"/>
                </a:lnTo>
                <a:arcTo wR="9092" hR="21600" stAng="1931364" swAng="3215659"/>
                <a:lnTo>
                  <a:pt x="10660" y="21276"/>
                </a:lnTo>
                <a:arcTo wR="9092" hR="21600" stAng="5652977" swAng="5147023"/>
                <a:close/>
              </a:path>
              <a:path fill="darkenLess" w="21600" h="21600">
                <a:moveTo>
                  <a:pt x="0" y="0"/>
                </a:moveTo>
                <a:arcTo wR="9092" hR="21600" stAng="10800000" swAng="-5400000"/>
                <a:lnTo>
                  <a:pt x="12229" y="21600"/>
                </a:lnTo>
                <a:arcTo wR="9092" hR="21600" stAng="5400000" swAng="252977"/>
                <a:lnTo>
                  <a:pt x="10660" y="21276"/>
                </a:lnTo>
                <a:arcTo wR="9092" hR="21600" stAng="5652977" swAng="5147023"/>
                <a:close/>
              </a:path>
            </a:pathLst>
          </a:custGeom>
          <a:solidFill>
            <a:srgbClr val="b83d68"/>
          </a:solidFill>
          <a:ln cap="sq"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57280" y="2049480"/>
            <a:ext cx="3357720" cy="22885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pH урин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,6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Унос протеина, мет.ацидоза и смањење калијума повећава pH ур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егетаријанска исхрана, унос киселог поврћа, мет.алкалоза, ренална тубуларна ацидоза повећава алкалност у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5840" y="2571840"/>
            <a:ext cx="7500960" cy="1928880"/>
          </a:xfrm>
          <a:prstGeom prst="rect">
            <a:avLst/>
          </a:prstGeom>
          <a:solidFill>
            <a:srgbClr val="e5c6d5"/>
          </a:solidFill>
          <a:ln cap="sq"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Специфична тежина и </a:t>
            </a:r>
            <a:r>
              <a:rPr b="0" lang="sr-RS" sz="2300" spc="-1" strike="noStrike">
                <a:solidFill>
                  <a:srgbClr val="000000"/>
                </a:solidFill>
                <a:latin typeface="Trebuchet MS"/>
              </a:rPr>
              <a:t>запремина</a:t>
            </a: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 излучене мокраће су обрнуто пропорционални (осим код ДМ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Осмолалност мокраће је мера концентрације растворених супстанци у мокраћ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12600" y="225360"/>
            <a:ext cx="7997760" cy="100008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285840" y="1785960"/>
            <a:ext cx="7532640" cy="48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Нативни снимак уротрак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Екскрециона урографија (интравенска и инфузион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Ретроградна и антероградна урографија (цистографиј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Ретроградна цистографија и микциона цистограф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Ангиографија крвних судова бубре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Компјутеризована томограф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Магнетна резонанц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Ултрасонографиј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Допплер сонографиј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512640" y="281160"/>
            <a:ext cx="8150400" cy="119376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Процена величине и изгледа бубре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Испитивање рекурентне уринарне опструкциј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Откривање и локализација калкулу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Процена суспектне уринарне опструкциј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Процена узрока хематуриј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512640" y="-6480"/>
            <a:ext cx="8082000" cy="138456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Даља процена бубрежних ма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Раздвајање масе од калцифика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Процена нефункционишућег бубре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Процена трауме бубре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Дијагноза феохромоцитома у надбубрег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438120" y="281160"/>
            <a:ext cx="8352000" cy="126648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395280" y="1844640"/>
            <a:ext cx="76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Као допуна ЦТ у процени реналних ма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Као алтернатива за ЦТ код особа које не подносе контрастна средст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Евалуација суспектног феохромоцито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Процена тромбозе реналне вен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и васкуларних поремећаја бубре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3249360" y="520560"/>
            <a:ext cx="25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b13f9a"/>
                </a:solidFill>
                <a:latin typeface="Calibri"/>
              </a:rPr>
              <a:t>Ангиограф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2355480" y="1143000"/>
            <a:ext cx="2003400" cy="857160"/>
          </a:xfrm>
          <a:prstGeom prst="line">
            <a:avLst/>
          </a:prstGeom>
          <a:ln cap="sq" w="9360">
            <a:solidFill>
              <a:srgbClr val="b13f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572000" y="1143000"/>
            <a:ext cx="2143080" cy="785880"/>
          </a:xfrm>
          <a:prstGeom prst="line">
            <a:avLst/>
          </a:prstGeom>
          <a:ln cap="sq" w="9360">
            <a:solidFill>
              <a:srgbClr val="b13f9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00040" y="2000160"/>
            <a:ext cx="37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b13f9a"/>
                </a:solidFill>
                <a:latin typeface="Calibri"/>
              </a:rPr>
              <a:t>Дијагности</a:t>
            </a:r>
            <a:r>
              <a:rPr b="0" lang="sr-CS" sz="3200" spc="-1" strike="noStrike">
                <a:solidFill>
                  <a:srgbClr val="b13f9a"/>
                </a:solidFill>
                <a:latin typeface="Calibri"/>
              </a:rPr>
              <a:t>ч</a:t>
            </a:r>
            <a:r>
              <a:rPr b="0" lang="sr-Latn-CS" sz="3200" spc="-1" strike="noStrike">
                <a:solidFill>
                  <a:srgbClr val="b13f9a"/>
                </a:solidFill>
                <a:latin typeface="Calibri"/>
              </a:rPr>
              <a:t>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429160" y="200016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b13f9a"/>
                </a:solidFill>
                <a:latin typeface="Calibri"/>
              </a:rPr>
              <a:t>Терапиј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42920" y="2786040"/>
            <a:ext cx="5176800" cy="2533320"/>
          </a:xfrm>
          <a:prstGeom prst="rect">
            <a:avLst/>
          </a:prstGeom>
          <a:solidFill>
            <a:srgbClr val="ffffff"/>
          </a:solidFill>
          <a:ln cap="sq" w="39960">
            <a:solidFill>
              <a:srgbClr val="de6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b13f9a"/>
              </a:buClr>
              <a:buFont typeface="Trebuchet MS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0" lang="ru-RU" sz="2000" spc="-1" strike="noStrike">
                <a:solidFill>
                  <a:srgbClr val="b13f9a"/>
                </a:solidFill>
                <a:latin typeface="Trebuchet MS"/>
              </a:rPr>
              <a:t>Сумњива стеноза/оклузија а. ренал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b13f9a"/>
              </a:buClr>
              <a:buFont typeface="Trebuchet MS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0" lang="ru-RU" sz="2000" spc="-1" strike="noStrike">
                <a:solidFill>
                  <a:srgbClr val="b13f9a"/>
                </a:solidFill>
                <a:latin typeface="Trebuchet MS"/>
              </a:rPr>
              <a:t>Сумња на артер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b13f9a"/>
              </a:buClr>
              <a:buFont typeface="Trebuchet MS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0" lang="ru-RU" sz="2000" spc="-1" strike="noStrike">
                <a:solidFill>
                  <a:srgbClr val="b13f9a"/>
                </a:solidFill>
                <a:latin typeface="Trebuchet MS"/>
              </a:rPr>
              <a:t>Перзистентна необјашњива хематур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b13f9a"/>
              </a:buClr>
              <a:buFont typeface="Trebuchet MS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0" lang="ru-RU" sz="2000" spc="-1" strike="noStrike">
                <a:solidFill>
                  <a:srgbClr val="b13f9a"/>
                </a:solidFill>
                <a:latin typeface="Trebuchet MS"/>
              </a:rPr>
              <a:t>Претрансплант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b13f9a"/>
              </a:buClr>
              <a:buFont typeface="Trebuchet MS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0" lang="ru-RU" sz="2000" spc="-1" strike="noStrike">
                <a:solidFill>
                  <a:srgbClr val="b13f9a"/>
                </a:solidFill>
                <a:latin typeface="Trebuchet MS"/>
              </a:rPr>
              <a:t>Тромбоза реналне ве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b13f9a"/>
              </a:buClr>
              <a:buFont typeface="Trebuchet MS"/>
              <a:buChar char="•"/>
              <a:tabLst>
                <a:tab algn="l" pos="17784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0" lang="ru-RU" sz="2000" spc="-1" strike="noStrike">
                <a:solidFill>
                  <a:srgbClr val="b13f9a"/>
                </a:solidFill>
                <a:latin typeface="Trebuchet MS"/>
              </a:rPr>
              <a:t>Компликације трауме или полицистичних бубре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500800" y="2786040"/>
            <a:ext cx="2357280" cy="1008720"/>
          </a:xfrm>
          <a:prstGeom prst="rect">
            <a:avLst/>
          </a:prstGeom>
          <a:solidFill>
            <a:srgbClr val="ffffff"/>
          </a:solidFill>
          <a:ln cap="sq" w="39960">
            <a:solidFill>
              <a:srgbClr val="de6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b13f9a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2000" spc="-1" strike="noStrike">
                <a:solidFill>
                  <a:srgbClr val="b13f9a"/>
                </a:solidFill>
                <a:latin typeface="Calibri"/>
              </a:rPr>
              <a:t>Ангиопла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13f9a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2000" spc="-1" strike="noStrike">
                <a:solidFill>
                  <a:srgbClr val="b13f9a"/>
                </a:solidFill>
                <a:latin typeface="Calibri"/>
              </a:rPr>
              <a:t>Ангиооклу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b13f9a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2000" spc="-1" strike="noStrike">
                <a:solidFill>
                  <a:srgbClr val="b13f9a"/>
                </a:solidFill>
                <a:latin typeface="Calibri"/>
              </a:rPr>
              <a:t>Тромболи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485640" y="1916280"/>
            <a:ext cx="737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Статичка сцинтиграф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Динамска сцинтиграф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Радиограф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Нуклеарно-медицинске методе</a:t>
            </a:r>
            <a:r>
              <a:rPr b="0" lang="sr-CS" sz="28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за одређивање клирен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255600" y="268200"/>
            <a:ext cx="8437680" cy="115884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1434960" y="1600200"/>
            <a:ext cx="2082960" cy="218592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3"/>
          <a:stretch/>
        </p:blipFill>
        <p:spPr>
          <a:xfrm>
            <a:off x="5214960" y="1643040"/>
            <a:ext cx="2071800" cy="218592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4"/>
          <a:stretch/>
        </p:blipFill>
        <p:spPr>
          <a:xfrm>
            <a:off x="1506600" y="3938760"/>
            <a:ext cx="1940040" cy="218736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5"/>
          <a:stretch/>
        </p:blipFill>
        <p:spPr>
          <a:xfrm>
            <a:off x="5141880" y="3938760"/>
            <a:ext cx="222408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395280" y="19890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Перкутана биопс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Трансјугуларна биопс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Отворена биопс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395280" y="19890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У већини случајева-перкутана (˝преко коже˝) пацијент у свесном стању, принципи сепсе и антисепсе у локалној анестезиј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Игла за биопсију се уводи кроз кожу, навођењем под контролом ултразвука, рентгена или одређених ендоскопских метода, биоптира се ткиво за патолошку анализ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468360" y="1916280"/>
            <a:ext cx="7532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Нефротски синдр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Системски еритемски лупу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Брзопрогредирајући гломерулонефрити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Погоршање ф-је трансплантираног бубре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Асимптоматска хематур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Асимптоматска протеинур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Акутна инсуфицијенција бубрега нејасног узрок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468360" y="1916280"/>
            <a:ext cx="7532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Апсолутне (поремећај крвављења, немогућност сарадње са болесником, нерегулисана хипертензија, хипотензиј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Релативне (смањени бубрези око 9 цм, екстремна гојазност, цисте на месту где се врши биопсија, пијелонефритис, апсцес бубрега, хидронефроз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Светлосним микроскоп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Имунофлуоресцентном микроскопиј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Електронском микроскопиј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365040" y="-6480"/>
            <a:ext cx="8541000" cy="138456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Микроскопско крвављењ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Макроскопско крвављењ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Периренални хемат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Артериовенска фисту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Повреда околних орга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Нефректом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Смр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5187960" y="420840"/>
            <a:ext cx="3638520" cy="108396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5357880" y="1643040"/>
            <a:ext cx="34290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  <a:tab algn="l" pos="105156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Calibri"/>
                <a:ea typeface="Microsoft YaHei"/>
              </a:rPr>
              <a:t>1.бубрежна кора (</a:t>
            </a:r>
            <a:r>
              <a:rPr b="0" i="1" lang="sr-Latn-CS" sz="2300" spc="-1" strike="noStrike">
                <a:solidFill>
                  <a:srgbClr val="000000"/>
                </a:solidFill>
                <a:latin typeface="Calibri"/>
                <a:ea typeface="Microsoft YaHei"/>
              </a:rPr>
              <a:t>cortex renalis, labyrinthus renalis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  <a:ea typeface="Microsoft YaHei"/>
              </a:rPr>
              <a:t>)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  <a:tab algn="l" pos="105156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Calibri"/>
                <a:ea typeface="Microsoft YaHei"/>
              </a:rPr>
              <a:t>2. </a:t>
            </a:r>
            <a:r>
              <a:rPr b="0" i="1" lang="sr-Latn-CS" sz="2300" spc="-1" strike="noStrike">
                <a:solidFill>
                  <a:srgbClr val="000000"/>
                </a:solidFill>
                <a:latin typeface="Calibri"/>
                <a:ea typeface="Microsoft YaHei"/>
              </a:rPr>
              <a:t>Bertinijevi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  <a:ea typeface="Microsoft YaHei"/>
              </a:rPr>
              <a:t> стубићи (</a:t>
            </a:r>
            <a:r>
              <a:rPr b="0" i="1" lang="sr-Latn-CS" sz="2300" spc="-1" strike="noStrike">
                <a:solidFill>
                  <a:srgbClr val="000000"/>
                </a:solidFill>
                <a:latin typeface="Calibri"/>
                <a:ea typeface="Microsoft YaHei"/>
              </a:rPr>
              <a:t>collumnae renales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  <a:ea typeface="Microsoft YaHei"/>
              </a:rPr>
              <a:t>)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  <a:tab algn="l" pos="105156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Calibri"/>
                <a:ea typeface="Microsoft YaHei"/>
              </a:rPr>
              <a:t>3. </a:t>
            </a:r>
            <a:r>
              <a:rPr b="0" i="1" lang="sr-Latn-CS" sz="2300" spc="-1" strike="noStrike">
                <a:solidFill>
                  <a:srgbClr val="000000"/>
                </a:solidFill>
                <a:latin typeface="Calibri"/>
                <a:ea typeface="Microsoft YaHei"/>
              </a:rPr>
              <a:t>Malpigijeve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  <a:ea typeface="Microsoft YaHei"/>
              </a:rPr>
              <a:t> пирамиде (</a:t>
            </a:r>
            <a:r>
              <a:rPr b="0" i="1" lang="sr-Latn-CS" sz="2300" spc="-1" strike="noStrike">
                <a:solidFill>
                  <a:srgbClr val="000000"/>
                </a:solidFill>
                <a:latin typeface="Calibri"/>
                <a:ea typeface="Microsoft YaHei"/>
              </a:rPr>
              <a:t>pyramides renales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  <a:ea typeface="Microsoft YaHei"/>
              </a:rPr>
              <a:t>)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  <a:tab algn="l" pos="105156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Calibri"/>
                <a:ea typeface="Microsoft YaHei"/>
              </a:rPr>
              <a:t>4. мале бубрежне чашице (</a:t>
            </a:r>
            <a:r>
              <a:rPr b="0" i="1" lang="sr-Latn-CS" sz="2300" spc="-1" strike="noStrike">
                <a:solidFill>
                  <a:srgbClr val="000000"/>
                </a:solidFill>
                <a:latin typeface="Calibri"/>
                <a:ea typeface="Microsoft YaHei"/>
              </a:rPr>
              <a:t>calices renales minores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  <a:ea typeface="Microsoft YaHei"/>
              </a:rPr>
              <a:t>)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  <a:tab algn="l" pos="105156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Calibri"/>
                <a:ea typeface="Microsoft YaHei"/>
              </a:rPr>
              <a:t>5. велике бубрежне чашице (</a:t>
            </a:r>
            <a:r>
              <a:rPr b="0" i="1" lang="sr-Latn-CS" sz="2300" spc="-1" strike="noStrike">
                <a:solidFill>
                  <a:srgbClr val="000000"/>
                </a:solidFill>
                <a:latin typeface="Calibri"/>
                <a:ea typeface="Microsoft YaHei"/>
              </a:rPr>
              <a:t>calices renales majores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  <a:ea typeface="Microsoft YaHei"/>
              </a:rPr>
              <a:t>)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  <a:tab algn="l" pos="105156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Calibri"/>
                <a:ea typeface="Microsoft YaHei"/>
              </a:rPr>
              <a:t>6. бубрежна карлица (</a:t>
            </a:r>
            <a:r>
              <a:rPr b="0" i="1" lang="sr-Latn-CS" sz="2300" spc="-1" strike="noStrike">
                <a:solidFill>
                  <a:srgbClr val="000000"/>
                </a:solidFill>
                <a:latin typeface="Calibri"/>
                <a:ea typeface="Microsoft YaHei"/>
              </a:rPr>
              <a:t>pelvis renalis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  <a:ea typeface="Microsoft YaHei"/>
              </a:rPr>
              <a:t>)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  <a:tab algn="l" pos="105156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Calibri"/>
                <a:ea typeface="Microsoft YaHei"/>
              </a:rPr>
              <a:t>7. мокраћовод (</a:t>
            </a:r>
            <a:r>
              <a:rPr b="0" i="1" lang="sr-Latn-CS" sz="2300" spc="-1" strike="noStrike">
                <a:solidFill>
                  <a:srgbClr val="000000"/>
                </a:solidFill>
                <a:latin typeface="Calibri"/>
                <a:ea typeface="Microsoft YaHei"/>
              </a:rPr>
              <a:t>ureter</a:t>
            </a:r>
            <a:r>
              <a:rPr b="0" lang="sr-Latn-CS" sz="23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549360" y="811080"/>
            <a:ext cx="4430520" cy="443736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4"/>
          <a:srcRect l="0" t="0" r="0" b="20006"/>
          <a:stretch/>
        </p:blipFill>
        <p:spPr>
          <a:xfrm>
            <a:off x="857160" y="4857840"/>
            <a:ext cx="2786040" cy="17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353880" y="5278320"/>
            <a:ext cx="8436240" cy="6588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285840" y="6000840"/>
            <a:ext cx="857232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  <a:ea typeface="Microsoft YaHei"/>
              </a:rPr>
              <a:t>У сваком бубрегу се налази више од милион нефрона, који се састоји од гломерула и туб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3"/>
          <a:stretch/>
        </p:blipFill>
        <p:spPr>
          <a:xfrm>
            <a:off x="444600" y="347760"/>
            <a:ext cx="4224240" cy="489420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4"/>
          <a:srcRect l="13338" t="12278" r="8332" b="5267"/>
          <a:stretch/>
        </p:blipFill>
        <p:spPr>
          <a:xfrm>
            <a:off x="4357800" y="571680"/>
            <a:ext cx="36432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407880" y="115920"/>
            <a:ext cx="8742600" cy="11095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285840" y="1428840"/>
            <a:ext cx="785808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Да ли нормално мокри (количински и тегобе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Да ли мокри често (дан-ноћ), да ли мокри мање или обилно и када (дан/ноћ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Да ли има сметње (болове) при мокрењ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Да ли има промене у боји и изгледу мокраћ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Да ли има појаву крви у мокраћ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Код жена питати за менструални циклус (када је била прва менструација, да ли је уредна, колико траје, да ли је обилна, болна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Да ли је имала порођаје и колико, да ли је имала мртворођене дец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Да ли је имала побачај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Да ли је имала и да ли има друге поремећаје у току менструациј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42920" y="1928880"/>
            <a:ext cx="814392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Инспекциј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(х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еморагијск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грозниц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са бубрежним синдромом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, ГНФ, едеми, боја коже и слузокоже, калцификације, ..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Палпација (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нормално се не могу палпирати, осим када су увећани: тумор, ТБЦ, ПББ, хидронефро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Перкусија код здравих особа не провоцира бол, осим код болесника са калкулозом или дифузним запаљењем капсуле бубре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Аускултација,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код сумње на стенозу бубрежне артер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142920" y="1785960"/>
            <a:ext cx="81532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Екскреторна функција </a:t>
            </a:r>
            <a:r>
              <a:rPr b="0" lang="sr-CS" sz="28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(излучивање отпадних производа метаболизма, вишак воде и електролита, као и супстанце стране организму) одржава </a:t>
            </a:r>
            <a:r>
              <a:rPr b="1" lang="sr-CS" sz="2800" spc="-1" strike="noStrike">
                <a:solidFill>
                  <a:srgbClr val="ff0000"/>
                </a:solidFill>
                <a:latin typeface="Trebuchet MS"/>
                <a:ea typeface="Microsoft YaHei"/>
              </a:rPr>
              <a:t>хомеостазу организ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Microsoft YaHe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путем гломерулске ултрафилтрације, тубулске реапсорпције, екскреције и секрециј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Метаболичка фун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Ендокрина фун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298440" y="353880"/>
            <a:ext cx="8437680" cy="11937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71280" y="1928880"/>
            <a:ext cx="80010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71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sr-CS" sz="2300" spc="-1" strike="noStrike">
                <a:solidFill>
                  <a:srgbClr val="ff0000"/>
                </a:solidFill>
                <a:latin typeface="Trebuchet MS"/>
                <a:ea typeface="Microsoft YaHei"/>
              </a:rPr>
              <a:t>Поремећај мокрења</a:t>
            </a:r>
            <a:r>
              <a:rPr b="0" lang="sr-CS" sz="23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Дизурија (отежано и болно мокрење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Полакисурија (учестало мокрење мање количине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Никтурија (буђење ноћу због потребе мокрења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Инконтиненција (немогућност контролисања мокрења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Енуреза (неконтролисано мокрење током сна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2880" indent="-271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2300" spc="-1" strike="noStrike">
                <a:solidFill>
                  <a:srgbClr val="ff0000"/>
                </a:solidFill>
                <a:latin typeface="Trebuchet MS"/>
                <a:ea typeface="Microsoft YaHei"/>
              </a:rPr>
              <a:t>Промена у запремини мокраћ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Полиуриј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Олигуриј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rebuchet MS"/>
                <a:ea typeface="Microsoft YaHei"/>
              </a:rPr>
              <a:t>Ануриј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25T20:13:08Z</dcterms:created>
  <dc:creator>Windows User</dc:creator>
  <dc:description/>
  <dc:language>en-US</dc:language>
  <cp:lastModifiedBy>Windows User</cp:lastModifiedBy>
  <dcterms:modified xsi:type="dcterms:W3CDTF">2020-10-01T06:01:28Z</dcterms:modified>
  <cp:revision>3</cp:revision>
  <dc:subject/>
  <dc:title>ПРОПЕДЕВТИКА БУБРЕГА И МОКРАЋНИХ ПУТЕВА</dc:title>
</cp:coreProperties>
</file>